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484-15D5-4941-A27E-DDC87F9B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EA2-90F9-4FAA-B92F-7A33490B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F9C-76A0-406D-A9DF-E178E339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1AB-B3B5-4C96-9AEC-7A09FAA0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868B-4669-4337-B1D8-B6734AFC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A31-5A1A-4294-BCD3-C41E19B2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8DC8-30A4-4715-AAEC-A9C11A1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9993-F9C5-41D3-95F8-00EE0212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471A-59C5-4B7B-B086-BC07822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CC8-0AF2-4B92-81BD-A3379EC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09F5-C80A-45BA-8387-C21A3B0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790-FEC1-4650-A2FF-DD78DFC1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E3F8-9BE4-446D-876A-CAF427F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C55-E11D-4752-961C-C312DE2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4335-DBF8-4484-B10A-ABC4F8FF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7EF8-F1B0-47F5-A150-59DACDAE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55ED-220D-4223-B2A2-B69BD8FF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19688-2D5C-4A2D-91DC-62B887B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68D76-D00E-499C-B603-BB49F69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31081-3101-48BD-8FFC-5BCD07F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C998C-78D0-43DB-9E62-DFCFC6EE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8A590-D2EE-4D6D-993F-2E1C0AB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24B-F849-4DB5-895D-B453451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CD3EC-CC98-4823-A5A4-0519D0C5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4A16A-3D36-4DBA-B0C3-6300049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B3538-58CD-42A5-8BDC-F7C22CB1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B270F-DB5E-4267-B813-4D1ED69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7561D-97B3-4369-9842-B2E42157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ECE127-6141-4997-8713-E1FB3448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BDE23-0696-49B4-BD4F-7FEFCA90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D77F-6B0D-4FBD-839D-9532080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B2481-44A9-49D9-86C0-6E4AD68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58A6-BEFB-4247-8F1D-4A95B7C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E8D-D084-474C-A0CB-558D608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8F1D-DFA2-4DF0-B6CB-360B7FAD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CBE9-3053-4B68-BE38-9F9CEBF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7FE05-05FB-4073-A3E6-D4A7C1F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B505-1219-4AC2-B93F-4A86669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6B41-39F4-43E2-A006-2B47858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6E9B-EC86-4441-B135-E8A1FED0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B0D6-51A8-4B1F-A662-99766C92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63F9-9FD5-4A0F-B3D3-3D2407DD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9B1A-952A-47BD-8936-2F724F3C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95DA0-B640-410C-9146-E4B423DB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A46-98F1-46D6-B855-208759C5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1F025-D4E6-42F9-B175-0F6F58E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718BE-9EC6-4B07-9023-DFE32599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E5448-BB73-46D3-AF84-A51250E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401EB-06AE-40A6-AEDF-9419623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8AAA0-965D-4F70-A9E6-7F9CCED3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A57CC-D59A-4D23-BDB8-E1D3149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4BBB2-5DC5-4376-9381-E229E0FE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17E66-2F06-4AC8-86A4-1AA5B40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0EFC3-BAB3-4453-962C-AF0F0C4F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64D76-CAFB-4ECF-AF9B-D6FF9585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676-2195-418D-9685-758A507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17968-4813-4CF8-8A55-EB3F074E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980DB-AD2E-4FE5-A302-90118B3C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C4344-7176-4338-98E1-E70BEE22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7EC64-EAEA-4A66-B0B0-27EA5ED5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B611C-F814-487C-9B9D-D167CE8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0A306-BF34-46AB-A6E5-3D9E5CF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ACF3A-9DAF-4CC5-96C6-DA102269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6E803-0F49-4ED7-913D-AB1A5E4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84C9E-0B1A-4F2D-BB0B-8B69E7F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543A5-09A4-4E0D-8A82-472E0EF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E82-8CE8-48A0-B26D-429AB70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2B686-6921-4D8F-9A88-57E87CB6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BBC594-2531-4D5F-A825-D4310923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5FC4F-DC32-4C10-AF40-5E086210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8CDC6-5089-42B7-B183-8A068D7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61810-4DC8-4E90-A213-D3696E58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2C90E-9E58-4F23-8404-68B0A874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A5B67-F711-434B-AEF2-37F72F3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872A7-1D86-4B42-B435-2D9D7DF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66EA4-3030-45D6-B392-0009C4B3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1E563-4AF9-44B0-82D1-58C8C4F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F88-097D-45E6-9DB3-BB80A04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3AAAE-ACAE-4B34-9CFD-14FD98B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BB777-5CCE-4CB9-9DBC-630CB61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9B5B9-6281-48D3-A8B0-BBABCF2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76077-D7CB-4A27-AC85-B0771AA2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1DAD9-2F3F-447F-BD05-02505E22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EF9-8F08-42E7-A614-7D5E1B9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E8F-2CD5-41F3-BE73-ABCCE85BBE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BA6D-6812-4139-8CC0-C74FFDB0C8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8611-37D4-43F2-8426-0F155C0AAB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038-8C37-4E5B-8A19-F55A70F808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AD84-1264-47E9-AC93-BF27EBB5F7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468C-BC64-4CD9-B6C3-AD5C58D152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5525-F53F-4246-9E95-BEA4A517FA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MON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94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fewer students liked potato salad than fried potato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TUE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2193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total number of students who chose mashed potatoes or fried potatoes as their favorit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WEDNE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2189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students did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oose baked potatoes as their favori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THUR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95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students attend Hillside Elementary Schoo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FRI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difference in the number of students who chose mashed potatoes and those that chose baked potato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2:55:35Z</dcterms:created>
  <dc:creator>127partidak</dc:creator>
  <dc:description/>
  <dc:language>en-US</dc:language>
  <cp:lastModifiedBy>127partidak</cp:lastModifiedBy>
  <dcterms:modified xsi:type="dcterms:W3CDTF">2012-01-27T23:07:47Z</dcterms:modified>
  <cp:revision>2</cp:revision>
  <dc:subject/>
  <dc:title>Monday</dc:title>
</cp:coreProperties>
</file>